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F10-6ABA-4524-ABD8-B7E717F3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671-1FCC-4C8D-B0DA-1D2D5C97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17C-AAB7-49DB-9B98-E6F2EC28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D77-7796-4F95-9035-A98226A5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CB5A-5135-4F0F-AAA4-56669712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38D8-13CC-4D26-984D-756EECA8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C66F-1A16-4EB8-B5F2-9D270812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BA34-E37E-4806-9EE2-2C87C66D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F5B3-F777-4631-A25E-A325B8DA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6CF0-89E3-4814-8F5B-E8710C72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F102-CD89-4E61-A569-7D805921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77D-D1A5-4B25-893E-17D440CF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F52D-C364-499A-B044-46DEA6D4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0C21-1C27-4DBC-BC56-F578585A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F80A-BF0A-486F-968E-883BE5C8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C35F-672E-4DA1-B3DC-65089531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F230-49A9-4AA4-8E0C-6CC3B2BA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A3D-DEFD-4559-9D53-E7280F33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289-2DBA-440D-BF30-766DB20F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BCD-297A-452C-8FBA-33D57599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1BA-B2D1-4485-94C9-62F1BA43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7B0-911E-4D4D-B817-41BFC6BA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3C2-DB94-4EF8-A14B-E47BBE2F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6D1-0023-4E2D-9ADF-32FFC400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13C6-F5DA-4020-8A39-406A60BE9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C5B5-E545-48C1-BF47-390F9BEA5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ceaae"/>
                </a:solidFill>
                <a:latin typeface="Bodoni MT Black"/>
              </a:rPr>
              <a:t>403 B</a:t>
            </a:r>
            <a:endParaRPr b="0" lang="en-US" sz="9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5410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Is it worth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4614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doni MT Black"/>
              </a:rPr>
              <a:t>M = P (1 + i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Bodoni MT Black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doni MT Black"/>
              </a:rPr>
              <a:t>Where,  </a:t>
            </a: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P= $10,00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odoni MT Black"/>
              </a:rPr>
              <a:t>i = 8%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doni MT Black"/>
              </a:rPr>
              <a:t>and n = 30 yea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33920" y="541008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010280" y="541008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doni MT Black"/>
              </a:rPr>
              <a:t>M = $100,62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Meaning, if you open an IRA beginning with $10,000, leave it sit for 30 years earning an average of 8% interest, you will have $100,626 when you retir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If you contribute an extra $50 a month, your total in 30 years will be $174,03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And…if you contribute $50 every paycheck, your total amount will be $259,67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4:58:44Z</dcterms:created>
  <dc:creator>DCRISS</dc:creator>
  <dc:description/>
  <dc:language>en-US</dc:language>
  <cp:lastModifiedBy>DCRISS</cp:lastModifiedBy>
  <dcterms:modified xsi:type="dcterms:W3CDTF">2009-11-18T15:10:04Z</dcterms:modified>
  <cp:revision>3</cp:revision>
  <dc:subject/>
  <dc:title>403 B</dc:title>
</cp:coreProperties>
</file>